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D83-1FBD-4E8D-A418-ED936DD4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125-ED7A-4592-906E-72B2E659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490-7693-481D-8F1E-0FB89B42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399-9B5F-4CEC-9DE1-A1705AAC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7A4-DB6B-444C-822A-2BDAF135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039C-1801-4945-8207-DFFA00D3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FAAC-434F-44DF-9ACB-1A49DC8E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CC65-2861-4A96-8A67-1CD57295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B84C-9E98-4650-8606-3B76FF34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3EF9-F73C-4A85-B74D-645DD75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971-65AE-4125-9FF5-70252E9F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D0E-8AFF-454F-B3E8-D15918C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C3D0-5B0A-4375-BE63-0003DFE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7617-E92B-4B0B-BE79-42626E8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29D3-C4D1-4528-AAF2-C2CD8F60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BB51-9B46-4B98-B9E9-B7B48907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DD43-3A26-4A45-A90F-0CE162DC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3D5-4691-4CF8-89C0-512519A7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1F3-BCF7-4247-BA41-C4D7B53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90E-7A3B-4E86-BD28-1B4CAD64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356-2897-44EF-93A7-84522FB1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507-00C1-47B2-BD22-02B021D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D01-F189-49B4-8629-F819A1D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04F-6EBF-44D6-930E-1C977C63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A5A-6CA2-4737-BF4A-DB910B7A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D027-F5E1-42B2-A49E-E5A58DA64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actmonster.com/mathmoney.html%22%22=%22%22%20target=" TargetMode="External"/><Relationship Id="rId2" Type="http://schemas.openxmlformats.org/officeDocument/2006/relationships/hyperlink" Target="http://www.factmonster.com/math/flashcards.html%22%22=%22%22%20target=" TargetMode="External"/><Relationship Id="rId3" Type="http://schemas.openxmlformats.org/officeDocument/2006/relationships/hyperlink" Target="http://www.factmonster.com/homework/%22%22=%22%22%20target=" TargetMode="External"/><Relationship Id="rId4" Type="http://schemas.openxmlformats.org/officeDocument/2006/relationships/hyperlink" Target="http://www.factmonster.com/states.html%22%22=%22%22%20target=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ctmonster.com/homework/hwgeography.html" TargetMode="External"/><Relationship Id="rId2" Type="http://schemas.openxmlformats.org/officeDocument/2006/relationships/hyperlink" Target="http://www.factmonster.com/homework/hwhistory.html" TargetMode="External"/><Relationship Id="rId3" Type="http://schemas.openxmlformats.org/officeDocument/2006/relationships/hyperlink" Target="http://www.factmonster.com/homework/hwenglish.html" TargetMode="External"/><Relationship Id="rId4" Type="http://schemas.openxmlformats.org/officeDocument/2006/relationships/hyperlink" Target="http://www.factmonster.com/homework/hwmath.html" TargetMode="External"/><Relationship Id="rId5" Type="http://schemas.openxmlformats.org/officeDocument/2006/relationships/hyperlink" Target="http://www.factmonster.com/homework/hwscience.html" TargetMode="External"/><Relationship Id="rId6" Type="http://schemas.openxmlformats.org/officeDocument/2006/relationships/hyperlink" Target="http://www.factmonster.com/homework/hwsocstudies.html" TargetMode="External"/><Relationship Id="rId7" Type="http://schemas.openxmlformats.org/officeDocument/2006/relationships/hyperlink" Target="http://www.factmonster.com/homework/writingskills1.html" TargetMode="External"/><Relationship Id="rId8" Type="http://schemas.openxmlformats.org/officeDocument/2006/relationships/hyperlink" Target="http://www.factmonster.com/homework/researchskills1.html" TargetMode="External"/><Relationship Id="rId9" Type="http://schemas.openxmlformats.org/officeDocument/2006/relationships/hyperlink" Target="http://www.factmonster.com/homework/speaklisten.html" TargetMode="External"/><Relationship Id="rId10" Type="http://schemas.openxmlformats.org/officeDocument/2006/relationships/hyperlink" Target="http://www.factmonster.com/homework/studyskills1.html" TargetMode="External"/><Relationship Id="rId11" Type="http://schemas.openxmlformats.org/officeDocument/2006/relationships/hyperlink" Target="http://www.factmonster.com/homework/hwsearch.html" TargetMode="External"/><Relationship Id="rId12" Type="http://schemas.openxmlformats.org/officeDocument/2006/relationships/hyperlink" Target="http://www.factmonster.com/almanacs.html" TargetMode="External"/><Relationship Id="rId13" Type="http://schemas.openxmlformats.org/officeDocument/2006/relationships/hyperlink" Target="http://www.factmonster.com/atlas/" TargetMode="External"/><Relationship Id="rId14" Type="http://schemas.openxmlformats.org/officeDocument/2006/relationships/hyperlink" Target="http://www.factmonster.com/dictionary.html" TargetMode="External"/><Relationship Id="rId15" Type="http://schemas.openxmlformats.org/officeDocument/2006/relationships/hyperlink" Target="http://www.factmonster.com/encyclopedia.html" TargetMode="External"/><Relationship Id="rId16" Type="http://schemas.openxmlformats.org/officeDocument/2006/relationships/hyperlink" Target="http://www.factmonster.com/people.html" TargetMode="External"/><Relationship Id="rId17" Type="http://schemas.openxmlformats.org/officeDocument/2006/relationships/hyperlink" Target="http://www.factmonster.com/pages/unitconversion.html" TargetMode="External"/><Relationship Id="rId18" Type="http://schemas.openxmlformats.org/officeDocument/2006/relationships/hyperlink" Target="http://www.factmonster.com/chemistry/" TargetMode="External"/><Relationship Id="rId19" Type="http://schemas.openxmlformats.org/officeDocument/2006/relationships/hyperlink" Target="http://www.factmonster.com/periodictable.php" TargetMode="External"/><Relationship Id="rId20" Type="http://schemas.openxmlformats.org/officeDocument/2006/relationships/hyperlink" Target="http://www.factmonster.com/atlas/calculate-distance.html" TargetMode="External"/><Relationship Id="rId21" Type="http://schemas.openxmlformats.org/officeDocument/2006/relationships/hyperlink" Target="http://www.factmonster.com/atlas/latitude-longitude.html" TargetMode="External"/><Relationship Id="rId22" Type="http://schemas.openxmlformats.org/officeDocument/2006/relationships/hyperlink" Target="http://www.factmonster.com/math/flashcards.html" TargetMode="External"/><Relationship Id="rId23" Type="http://schemas.openxmlformats.org/officeDocument/2006/relationships/hyperlink" Target="http://www.factmonster.com/pages/numeralgame.html" TargetMode="External"/><Relationship Id="rId24" Type="http://schemas.openxmlformats.org/officeDocument/2006/relationships/hyperlink" Target="http://www.factmonster.com/yearbyyear.html" TargetMode="External"/><Relationship Id="rId25" Type="http://schemas.openxmlformats.org/officeDocument/2006/relationships/hyperlink" Target="http://www.factmonster.com/dayinhistory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ctmonster.com/birthday" TargetMode="External"/><Relationship Id="rId2" Type="http://schemas.openxmlformats.org/officeDocument/2006/relationships/hyperlink" Target="http://www.factmonster.com/fmnews.html" TargetMode="External"/><Relationship Id="rId3" Type="http://schemas.openxmlformats.org/officeDocument/2006/relationships/hyperlink" Target="http://www.factmonster.com/spot/timelinearchive.html" TargetMode="External"/><Relationship Id="rId4" Type="http://schemas.openxmlformats.org/officeDocument/2006/relationships/hyperlink" Target="http://www.factmonster.com/analogies" TargetMode="External"/><Relationship Id="rId5" Type="http://schemas.openxmlformats.org/officeDocument/2006/relationships/hyperlink" Target="http://www.factmonster.com/spellingbee" TargetMode="External"/><Relationship Id="rId6" Type="http://schemas.openxmlformats.org/officeDocument/2006/relationships/hyperlink" Target="http://www.factmonster.com/wordoftheday" TargetMode="External"/><Relationship Id="rId7" Type="http://schemas.openxmlformats.org/officeDocument/2006/relationships/hyperlink" Target="http://www.factmonster.com/homework/faq.html" TargetMode="External"/><Relationship Id="rId8" Type="http://schemas.openxmlformats.org/officeDocument/2006/relationships/hyperlink" Target="http://www.factmonster.com/askeds/" TargetMode="External"/><Relationship Id="rId9" Type="http://schemas.openxmlformats.org/officeDocument/2006/relationships/hyperlink" Target="http://www.factmonster.com/askeds/" TargetMode="External"/><Relationship Id="rId10" Type="http://schemas.openxmlformats.org/officeDocument/2006/relationships/hyperlink" Target="http://www.factmonster.com/spot/halloween.html" TargetMode="External"/><Relationship Id="rId11" Type="http://schemas.openxmlformats.org/officeDocument/2006/relationships/hyperlink" Target="http://www.factmonster.com/spot/halloween.html" TargetMode="Externa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ACTMONST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990720" y="3962520"/>
            <a:ext cx="678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FACTMONSTER: HOMEWORK MADE EAS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ames &amp; Quizz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Dictiona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Scie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Countries of the Wo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FERENCE DES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WORK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 ALMAN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Z DICTION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YCLO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MEWORK CENTER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TEG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5905800" cy="30906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800" y="673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kil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Geograph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istor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Language Ar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Mathematic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Scien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Social Studi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Writing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Research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Speaking &amp; Listen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Study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ference Sour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Search Tip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Browse: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Almanac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Atla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Dictionary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Encyclopedia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Biographi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arch: All Reference Biographies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Tools for Schoo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cience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Conversion Calcul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8"/>
              </a:rPr>
              <a:t>Chemistry Plac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19"/>
              </a:rPr>
              <a:t>Periodic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Geography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0"/>
              </a:rPr>
              <a:t>Calculate Distance (U.S. locations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!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1"/>
              </a:rPr>
              <a:t>Find Latitude and Longitud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(U.S. locations)  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ew!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ath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2"/>
              </a:rPr>
              <a:t>Math Flashcard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3"/>
              </a:rPr>
              <a:t>Roman Numeral Challeng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istory &amp; Current Events: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4"/>
              </a:rPr>
              <a:t>Year by Year: 1900–2010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nter a year: 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99ff66"/>
                </a:solidFill>
                <a:uFillTx/>
                <a:latin typeface="Arial"/>
                <a:hlinkClick r:id="rId25"/>
              </a:rPr>
              <a:t>The Day in History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lect month &amp; date: 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ON TOPI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otable Birthdays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»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elect month &amp; date: 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Today's New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Timel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nguage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Analogy of the Da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Daily Spelling Be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ord Quiz: </a:t>
            </a: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immunit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AQ's: 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Fast answers to common questions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k the Fact Monster: 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Your</a:t>
            </a:r>
            <a:r>
              <a:rPr b="1" lang="en-US" sz="10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questions answer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 the Spotligh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allowee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eritage Featu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eb: Black Histor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r: Women's Histor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: Asian Pacific American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pt/Oct: Hispanic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: American-Indian Heritag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eed Homework Help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AMES/QUIZZ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L RIGHTS TIM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 PRESI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IDAY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G MAN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0:54:18Z</dcterms:created>
  <dc:creator>Peggy</dc:creator>
  <dc:description/>
  <dc:language>en-US</dc:language>
  <cp:lastModifiedBy>training</cp:lastModifiedBy>
  <dcterms:modified xsi:type="dcterms:W3CDTF">2011-10-22T13:19:06Z</dcterms:modified>
  <cp:revision>9</cp:revision>
  <dc:subject/>
  <dc:title>FACTMONSTER</dc:title>
</cp:coreProperties>
</file>